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E29-918C-49F0-BAD0-34A5FDC42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422A-988E-4C40-B1A1-3AC4B0EC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20AD1-2A64-4D99-9104-14F9053A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AFE02-A036-44E5-811A-CA065C86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C6BE8-543A-443E-94AD-4BC381F4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80242-654A-4C4A-89AE-D1E29D7D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4CA30-CAF2-467F-BA12-0E43D22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EA066-AAC6-43E4-B8F6-95A9E80F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83E420-DE8F-459D-ADB3-A7DE3C87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7842C8-EE5B-4E0D-A3CC-ED60A9AA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2AEEE-2320-43AB-A6D8-43579CE6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C2D2E-C0DE-4EC3-A77D-CD74C8272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9B11-0804-4A41-A5E8-E51D7A0E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F5627D-C087-4921-A4F1-D1EE7EC5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46091A-DE28-4F3C-AA82-71E1FB06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C26130-3767-4D78-8287-F57CFC2E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EF815-9A1B-4BCF-839C-CD91904B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39B1D-7FF1-4C74-BDB3-C0E0B6D2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4DAB6-7484-4D62-AAA8-F4DAC9A4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20035-EABF-4808-94D5-47660E8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619C7-1839-4A7D-9171-CA8AF2DF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6433B3-E116-4D75-AE22-64C10123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A16A05-5D55-4CA8-9B3D-50BA344C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DDD7-395C-4D5B-9908-44D531FC0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7C401-53C9-4E90-922E-8800F8CB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DCCC7-C135-4F10-8AC2-39476E38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25096-D0F5-4308-9B98-59DDA01B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6F54E-FD4D-479C-A356-5AF25D88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150F65-684C-4DD3-B970-AC301A00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3A0CB-E433-45E4-9645-A983D570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57EF6-0195-4A42-B450-D057B90F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BAA00-D9EA-448B-914E-D948634E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04B89-4C75-4C25-8749-08453802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DCFE0-0329-427F-8763-42BC6CDD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DEE8-855B-4F6F-B5D2-90F3AE02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0C0BB-E5D5-422B-B3D5-18D19D12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3B2262-AC40-48A9-A324-28BD5562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3B77E-5A22-4EC0-860C-905870D9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54044-EE01-4599-BE04-8D6A8A58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9D097E-AB27-4B4C-8B53-BCA3BE0D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4CDE5-5EDE-4824-9ACA-06A05ED2A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395BD-640A-4BCB-9756-78936942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B9BE4-6286-429F-9919-1618B9E4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058ED4-6BA6-4294-B69A-C6A7897A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D8A6D-60A7-48CD-8B62-F0285832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7C19-2D02-44D9-AC42-AB5BFFAA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A5C9E4-97F7-4858-AB34-C69E2962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13D0D-BD2F-4317-A8D8-7AA07EA4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C26FE-999E-471D-A475-D0F15B36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22934-83ED-4808-A4E0-913CC45F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924F8-7F37-44AA-B639-2C4934FF9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74131-2897-4078-9F1B-7FE857CE7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9CE77-92AB-41C4-8E93-680F5748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30C0F-531E-449C-AF1F-2323748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66F1D8-B179-4558-8FAC-3C83829B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EAC7B-841E-4E2F-ABBF-54CAB481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EB55-3EA8-4367-ABD7-74BF10B9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3DB116-9A22-4017-BEE5-0F688AD9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234147-AA21-438A-AE9F-A389F937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476E12-341D-4961-8CDC-8D61A370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AC64A-E7EC-4452-B700-D739A4C1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090EAC-784D-42F5-8FA5-E3BD13B2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2AB2E-66B0-4F96-BD87-6B98DAA5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65833E-05DD-47ED-B3ED-B0BC8B18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0F60D9-E1FF-4B65-B5F8-0B946A27B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CCC90-8314-4D31-8F3E-728E7C67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7DCD2-194B-49F8-A449-57F8C6EA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CA9C-32CC-4E90-BE94-B2079877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EAFF97-8B90-4B0D-97ED-70DAE45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B37A58-399E-48B2-AD5E-A2EABA2C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F91467-D142-46D2-8742-1E8F6EB5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49588-8FF1-4990-B639-CF55E5CC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B0782-4E53-4517-85B7-C6DCF20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D9407E-D444-400F-B7B2-863AF164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B09CE-B295-4524-B105-07FF3617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8892AD-6FC7-47C0-AD45-24419A33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F8ED67-0877-45CE-BA0F-E381A283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CE5C9-1581-424C-86D7-D5675F9E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BCD6-B0D0-4BE4-8CC9-10C1142B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E9E369-3472-4A4C-8D75-DBD268AC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CFBA2-0876-46BF-AE24-FE667F80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977157-A329-4654-B412-7908596D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F228F3-9B56-4D2E-A898-8371CB33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49125-23D0-4AC5-964A-C55A17AD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7DD3D-2FC9-405C-A3A4-AEC62654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33270-D8C7-4231-ACFF-7E07E09C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7F1BE-993F-424B-9BB2-4D88C70F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09DE82-7711-4237-9ADD-93FE50F8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2E1046-F9ED-4A8A-8D28-542D66A9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5682-15BF-4C19-B88F-14C96742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88F0F-DD39-4187-A515-D0309D944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D01C14-9A45-48B8-B70A-E716E6A8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65EDA-F204-422E-8262-B9BB420A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EC104C-724E-4FA7-A004-C773B6E2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4FBE95-82C7-4771-A4BD-182962E8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83F592-D6DF-46A8-81D0-AE42FE2A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9D52A-EECD-4DE7-8593-52F26A7F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C9E6CF-2B05-4B4B-81D6-C13B2556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BCB47F-E993-485E-9EBA-D5A1AF9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498C7-0E58-43C9-AC7E-B00836FE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D57E9-A474-46B4-A741-172620BA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1319C4-9A99-479D-9A80-9F37E0A9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70669E-8951-4471-B019-655AA4BB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DDC865-E15A-4372-B78E-31C111A6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3B861-6C64-455A-BEF6-7BD69E55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CD116D-09EF-4451-9CA8-643AD1DD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BA4B65-C469-42EE-9047-C7B832B1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D801E8-87E0-462D-B499-9BCCE15E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13F95-84AD-41CF-8E5D-889E008BF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8643CA-447D-4C51-9E3F-585158916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865531-45F4-4A7B-8A10-C2426449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AC90-CB8B-43D7-8CC7-21E12441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170E-AD96-46FC-8AB7-59B36900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E36BEB-2615-4BE1-87AA-8750F6F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AEB3B9-59C0-4082-BA8F-1F55171D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4BC6B-96E5-401A-8898-9B56F30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416976-E987-4664-81E9-5F8480E4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E7701-5423-4500-A207-A6349A6B4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F8A51-B0F9-4817-8F25-70F3D749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A94F3-118A-4C0C-AA16-44F91ECE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54FB5E-F748-4BED-83D6-29F5C637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35B50-DC41-459E-AAB4-E3A18ED7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A192D-1425-4D15-9B4D-2E578B30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6A82E-FCC5-48C1-A8BA-E8EFFF2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FA806D-F10D-4822-8E66-256E1F12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85BE5-3614-4F21-BBF5-8D79216D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FB8A83-C66C-44C3-AC2A-EC3BB4F3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ABF17B-1EB8-4394-AE29-3ECD6A15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8462A2-047D-46D6-8031-C6EA20254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C8ACD-DA3C-4EC2-B1B5-AA4F4E5B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1630E1-4274-44B5-8BEE-2DB8B864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059149-7886-4500-A8F2-957A4EEF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8597A5-9FED-4B27-9459-6A83151F5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B57F54-BDD2-4EC2-94D1-D0FE812B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E0C2-87C3-4BE5-8AA6-9D2210B2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90AE86-1230-44ED-9C31-E6F624FF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6BD6F-4154-40D3-A753-C718B37C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76E55B-5EBC-406C-BF1A-06B4A664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B9EDD4-0D57-46EF-A623-81F7CDD7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367D87-999C-4005-9F50-725D0379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FEF3DE-853B-477B-9972-B4660AF2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0FB7C0-215F-4D4A-922B-BC0F8B6C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9B5086-E79E-4426-83A9-F5F34495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CC5A7-0432-4CCB-BB09-77336A82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A0288E-5B5A-4743-A341-F4A0FAD1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59F2-CB0B-4F13-BA61-8B87CEF25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50A06-78BE-4A0E-BC93-44B2E0E7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4D5F0D-7603-4CA8-9281-34C2EB68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C0E822-5930-4D9D-819A-A3E9FFD7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2F36F-0353-4CE8-97FF-F2A6EFB3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D2603-2589-4FF2-8E78-ED8CA3CE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C7B99A-9681-4334-93CA-D17456C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BDBE0-D4C6-46DD-BDCE-3079F2FC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030DE-B810-4004-B389-67FEEE74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90F90C-68BC-46BB-B2F6-F04F096D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9D33C3-7CE8-43B5-A809-EA91DFF9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17DF-1AFB-4DC6-82D4-4A4DB26A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0D032-1870-430E-854D-BEB7C3E6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F894CA-7ADD-4353-84D1-95F35A982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844750-A2E4-4203-8C55-F83B8CF8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0B0AD-8F1C-4326-8132-FC82A7FB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386663-33FA-4DBA-B6DE-AE673E21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50CDB5-F029-43B4-B26E-4AD04BE0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407833-7C15-4230-8158-8A8A9239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CE171-3126-455F-9473-1761171A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1514C6-452D-4ADC-8722-75893722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B47EC0-662F-42B9-BD8F-206DAFEB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42C6-E352-464D-AE23-7F969481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AD1EF-D054-4B20-858C-A384598B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4841E7-A1B9-475D-8E75-CD0A8F09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AE1463-8602-4A36-B2AC-1EC634656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216D-4712-4ABF-96E0-59F58554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4491-7550-4D01-8C2E-1A99A466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97631-190F-4DF5-995E-7305A9C8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4554F-19DA-4342-83C8-D82F5186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0902-544F-4767-BEC4-D419C55FC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7B55-D233-4A80-B7C3-9AB057CE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19F7-9ECD-4854-948C-89C20642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D749-5FCA-4D18-AE56-0BB61DE4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64D57-8261-408A-BBC4-CB032A84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3C46-1A93-4CE3-BD44-836080AC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4DB68-94CD-4038-8DA7-E166C37D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21D4B-E0D4-44C2-916F-0F06CE6C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4B107-599F-4596-A78D-4B103591D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21671-652E-4F97-B844-FBE334E1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FA2FE-A3AA-48ED-8568-0848897C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DA6-EBFC-466F-8FA8-CD92087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762DC-C427-435D-9858-315D9E5A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DE0A1-0C8F-4F3A-AA1A-DE65AA13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C3AB7-0ED3-4DD3-805A-5309707A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9199A-FEA7-4668-9B37-9A34C38A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90F36-532A-491B-9FE9-73092D69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86C8-58E1-43CA-BCCA-6078B6FF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4E4D1-33AF-49FF-B54A-1ED77D74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FE5F-9F0B-4539-AA69-45A38377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BBB1E-F9EF-4B87-B5D5-A64AEB2AA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228D7-351A-4486-A072-1DBD371D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4ABC-15BC-47A1-BFF4-5E02ECCA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57CE2-0A79-4E6A-9794-057D2DFC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2C05A-2313-4A3F-95E4-65BA9381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08F3-24D9-4A1A-AAEA-E8A4FEC70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A0D3-2716-457D-8C80-013AE0B3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3921-F982-41F4-A8FD-49C776A5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1CA4B-FCD8-46A7-AF9B-6F94AF63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EF123-CFD3-4EEA-97D2-DAA4BC52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BF20-E1E5-45E0-AD67-832644BD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895F0-04F5-4F8E-B7C6-AED44FA1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B091B-305F-4B29-A97F-9587B99C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78A-0FFD-4551-ACA3-F2CE3CFD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2FD77-5054-4BE9-A2FE-B344A801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FF74A-4737-414C-95C9-1D94538B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C5F76-F0A3-4BA8-A349-1E9ABAABF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8E7207-6D16-4E9A-8EDF-18704B0F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C76C3-1278-459F-BBCD-D19AB6ED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825E0-21BE-4E3E-A53D-9D807D7F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7BD66-2648-4E7F-8D85-4B5727BB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5CBCC-AEE9-4ABF-BF93-C3B8321F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0D2C5-2B71-4850-AE90-A53B3786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C7C9D-ACB1-457F-A74E-ECEEB832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DC2-717F-4C58-8544-FD345890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0AAFF-7EE3-475E-ACDC-81DC370E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6505E-304B-4974-BC41-86590032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1707C-7B6A-4C01-A718-33DBECD8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3651AA-47C6-48A3-BF90-68228F316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9898E-4E56-42FE-96A5-07D78C34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CA565-FFD4-4FF2-9D80-6CC81815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B8CE1-2505-4F4A-A178-CB00D0E7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B3ED1-1B0F-42BB-A3D5-B5D6E3F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45BEF-2C2A-4EF2-B8C8-604F303F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48EDD-1A00-4D49-85F8-68BF453A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AF2-6D87-4A2B-9BA5-B4DA56D5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002D2-8B15-4A6F-8A2E-B0CE7A97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B4F50-AED1-4543-8EF9-90242F1A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5DCCE-1562-489F-BA63-E6C6DA82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8EFA7-66A8-435F-9F0F-4EDE4C83B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EE97-103A-4F18-AD39-D63638F7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09BA1-F7F1-451E-85E2-0194319EC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6F256-AA20-46BA-B998-4B2D6810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579F1-8A32-4831-A0A0-AB122C5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D0683-5D6A-418E-96FD-7F0A108E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932B6-4343-4026-950D-082C6B29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6D1-2EFA-48C0-8B7B-7EE1CA6C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136B1-79EE-416D-BBA7-6DBA9F99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9AA2F-FE04-4B94-969B-189BCD56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7DFED6-4F52-4216-8195-067F3C91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2A80C-6CCD-4AA3-8834-FFCF0729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4B85B-9E8E-4737-B884-DF23B9EA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FA74B-C3BA-4C4F-B56B-BE69DED63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57224-4429-410D-B4F5-F13DE32E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A2CD6-E658-4C50-BAE5-B4BA6210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3D700-A750-4B94-BD4C-CDC4B592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2BCA0-8C3C-4CEA-B235-38373371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47F6-105D-45E2-8A35-DDADB4794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81C2-695E-45EC-A6E4-472AA87350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AEB9-C66F-4AB3-98C0-9F1F9CD450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F11-6781-4093-81DA-76850FA6D9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EAFF-19D4-4916-83FD-2B1064A46A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AB91F-63C7-41B4-99F5-606C4A255D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C2B68-46D0-4563-9594-0BA5467F5E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740C-BC66-41BE-8030-7C6B6E02ED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4D1E-C96A-4B0D-91CE-9A2F2CBB97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106B-CC9B-480C-B037-DB58B87F09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3113-1D3D-4DCF-BDB7-04493A0C6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B7A3-FC44-49C0-B13A-BC791E2A29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5738-6340-4FE7-BFF6-46D78A0D9E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5C97-CB8F-4AC8-A8B5-64F0D529369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9305-0F8B-48BF-92F8-6796E6C18F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47D3-C86C-4A6C-AD11-765BA79971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388B-1799-4B74-B6C3-323D9738C8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C5EB-897B-4A07-A6AB-E4DC77C86B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43F6-3423-45E9-A152-9DB0FA494E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90A4-09C5-484E-8B4C-242F07FF4C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DDE8-005E-4190-8611-7317D4D8FF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FF336-DD5D-4F0A-A43C-E248FFFA68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C328-66E7-41DC-B7FF-7EEC32F9DC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5EA8-4D2A-4DA0-A9FB-55F476494B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D901-E2BD-4059-B7E1-3D5B7BBFF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35CC-1A15-41CD-96F0-8A8903E45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540A-F865-4645-8CF7-FC8DE1CFCD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5ADA-50BF-45E4-8B7D-6BEE1003E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3C50-27F5-40DB-959B-536984BEF2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62EA-528C-4D3E-83AA-DD486051F3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C90B-D0B0-4C5D-AD15-921BE19798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FB3C-08AA-4B34-B04A-15776B9954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8E8-716B-4652-8EB1-12483C361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B98C-F4BD-4598-9B2C-A1E67D15D3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F732-1740-4259-9136-59AAEB2D34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2AEC-1C96-4E19-AF84-4DC3D0A445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8C78-C91C-4959-B9BC-D0412396C3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C79C1-2F17-48B0-94BD-880AF86CEF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11EE-99D1-46D2-99DF-2A7026B601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1479-31A9-42E5-88EA-B76086865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362320" y="3057480"/>
            <a:ext cx="441936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2" descr=""/>
          <p:cNvPicPr/>
          <p:nvPr/>
        </p:nvPicPr>
        <p:blipFill>
          <a:blip r:embed="rId1"/>
          <a:stretch/>
        </p:blipFill>
        <p:spPr>
          <a:xfrm>
            <a:off x="428760" y="733320"/>
            <a:ext cx="8343720" cy="29815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5" descr=""/>
          <p:cNvPicPr/>
          <p:nvPr/>
        </p:nvPicPr>
        <p:blipFill>
          <a:blip r:embed="rId2"/>
          <a:stretch/>
        </p:blipFill>
        <p:spPr>
          <a:xfrm>
            <a:off x="395280" y="3843360"/>
            <a:ext cx="8391600" cy="29433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3"/>
          <a:stretch/>
        </p:blipFill>
        <p:spPr>
          <a:xfrm>
            <a:off x="1928880" y="135720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4"/>
          <a:stretch/>
        </p:blipFill>
        <p:spPr>
          <a:xfrm>
            <a:off x="5643720" y="135720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5"/>
          <a:stretch/>
        </p:blipFill>
        <p:spPr>
          <a:xfrm>
            <a:off x="1919160" y="199224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6"/>
          <a:stretch/>
        </p:blipFill>
        <p:spPr>
          <a:xfrm>
            <a:off x="5634000" y="199224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7"/>
          <a:stretch/>
        </p:blipFill>
        <p:spPr>
          <a:xfrm>
            <a:off x="5572080" y="2600280"/>
            <a:ext cx="3000600" cy="4539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8"/>
          <a:stretch/>
        </p:blipFill>
        <p:spPr>
          <a:xfrm>
            <a:off x="4562640" y="4473720"/>
            <a:ext cx="2000160" cy="4521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9"/>
          <a:stretch/>
        </p:blipFill>
        <p:spPr>
          <a:xfrm>
            <a:off x="1928880" y="5072040"/>
            <a:ext cx="41432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2" descr=""/>
          <p:cNvPicPr/>
          <p:nvPr/>
        </p:nvPicPr>
        <p:blipFill>
          <a:blip r:embed="rId1"/>
          <a:stretch/>
        </p:blipFill>
        <p:spPr>
          <a:xfrm>
            <a:off x="361800" y="885960"/>
            <a:ext cx="8420400" cy="56862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1000080" y="912960"/>
            <a:ext cx="60721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Picture 2" descr=""/>
          <p:cNvPicPr/>
          <p:nvPr/>
        </p:nvPicPr>
        <p:blipFill>
          <a:blip r:embed="rId1"/>
          <a:stretch/>
        </p:blipFill>
        <p:spPr>
          <a:xfrm>
            <a:off x="385920" y="971640"/>
            <a:ext cx="83721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2" descr=""/>
          <p:cNvPicPr/>
          <p:nvPr/>
        </p:nvPicPr>
        <p:blipFill>
          <a:blip r:embed="rId1"/>
          <a:stretch/>
        </p:blipFill>
        <p:spPr>
          <a:xfrm>
            <a:off x="390600" y="1023840"/>
            <a:ext cx="83628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2" descr=""/>
          <p:cNvPicPr/>
          <p:nvPr/>
        </p:nvPicPr>
        <p:blipFill>
          <a:blip r:embed="rId1"/>
          <a:stretch/>
        </p:blipFill>
        <p:spPr>
          <a:xfrm>
            <a:off x="409680" y="1066680"/>
            <a:ext cx="8324640" cy="23623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2"/>
          <a:stretch/>
        </p:blipFill>
        <p:spPr>
          <a:xfrm>
            <a:off x="428760" y="3724200"/>
            <a:ext cx="6143400" cy="25624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3"/>
          <a:stretch/>
        </p:blipFill>
        <p:spPr>
          <a:xfrm>
            <a:off x="2928960" y="4429080"/>
            <a:ext cx="1285920" cy="4539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4"/>
          <a:stretch/>
        </p:blipFill>
        <p:spPr>
          <a:xfrm>
            <a:off x="3786120" y="5143680"/>
            <a:ext cx="2000160" cy="453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5"/>
          <a:stretch/>
        </p:blipFill>
        <p:spPr>
          <a:xfrm>
            <a:off x="3857760" y="5778360"/>
            <a:ext cx="200016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3" descr=""/>
          <p:cNvPicPr/>
          <p:nvPr/>
        </p:nvPicPr>
        <p:blipFill>
          <a:blip r:embed="rId1"/>
          <a:stretch/>
        </p:blipFill>
        <p:spPr>
          <a:xfrm>
            <a:off x="347760" y="843120"/>
            <a:ext cx="8448480" cy="580068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4" descr=""/>
          <p:cNvPicPr/>
          <p:nvPr/>
        </p:nvPicPr>
        <p:blipFill>
          <a:blip r:embed="rId2"/>
          <a:stretch/>
        </p:blipFill>
        <p:spPr>
          <a:xfrm>
            <a:off x="2000160" y="1544760"/>
            <a:ext cx="1285920" cy="4539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3"/>
          <a:stretch/>
        </p:blipFill>
        <p:spPr>
          <a:xfrm>
            <a:off x="5286240" y="1500120"/>
            <a:ext cx="1285920" cy="45396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4"/>
          <a:stretch/>
        </p:blipFill>
        <p:spPr>
          <a:xfrm>
            <a:off x="1000080" y="2214720"/>
            <a:ext cx="1285920" cy="4539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5"/>
          <a:stretch/>
        </p:blipFill>
        <p:spPr>
          <a:xfrm>
            <a:off x="7215120" y="2214720"/>
            <a:ext cx="1500120" cy="45396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6"/>
          <a:stretch/>
        </p:blipFill>
        <p:spPr>
          <a:xfrm>
            <a:off x="642960" y="2867040"/>
            <a:ext cx="1285920" cy="4525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7"/>
          <a:stretch/>
        </p:blipFill>
        <p:spPr>
          <a:xfrm>
            <a:off x="5000760" y="3546360"/>
            <a:ext cx="100008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Picture 2" descr=""/>
          <p:cNvPicPr/>
          <p:nvPr/>
        </p:nvPicPr>
        <p:blipFill>
          <a:blip r:embed="rId1"/>
          <a:stretch/>
        </p:blipFill>
        <p:spPr>
          <a:xfrm>
            <a:off x="380880" y="1052640"/>
            <a:ext cx="8382240" cy="51624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2"/>
          <a:stretch/>
        </p:blipFill>
        <p:spPr>
          <a:xfrm>
            <a:off x="7358040" y="1071720"/>
            <a:ext cx="1000080" cy="45396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4" descr=""/>
          <p:cNvPicPr/>
          <p:nvPr/>
        </p:nvPicPr>
        <p:blipFill>
          <a:blip r:embed="rId3"/>
          <a:stretch/>
        </p:blipFill>
        <p:spPr>
          <a:xfrm>
            <a:off x="571680" y="4357800"/>
            <a:ext cx="8286480" cy="453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4" descr=""/>
          <p:cNvPicPr/>
          <p:nvPr/>
        </p:nvPicPr>
        <p:blipFill>
          <a:blip r:embed="rId4"/>
          <a:stretch/>
        </p:blipFill>
        <p:spPr>
          <a:xfrm>
            <a:off x="571680" y="5029200"/>
            <a:ext cx="8286480" cy="4539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4" descr=""/>
          <p:cNvPicPr/>
          <p:nvPr/>
        </p:nvPicPr>
        <p:blipFill>
          <a:blip r:embed="rId5"/>
          <a:stretch/>
        </p:blipFill>
        <p:spPr>
          <a:xfrm>
            <a:off x="571680" y="5689440"/>
            <a:ext cx="8286480" cy="4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Picture 2" descr=""/>
          <p:cNvPicPr/>
          <p:nvPr/>
        </p:nvPicPr>
        <p:blipFill>
          <a:blip r:embed="rId1"/>
          <a:stretch/>
        </p:blipFill>
        <p:spPr>
          <a:xfrm>
            <a:off x="366840" y="1000080"/>
            <a:ext cx="8410320" cy="54291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4" descr=""/>
          <p:cNvPicPr/>
          <p:nvPr/>
        </p:nvPicPr>
        <p:blipFill>
          <a:blip r:embed="rId2"/>
          <a:stretch/>
        </p:blipFill>
        <p:spPr>
          <a:xfrm>
            <a:off x="2143080" y="4546440"/>
            <a:ext cx="785880" cy="45432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4" descr=""/>
          <p:cNvPicPr/>
          <p:nvPr/>
        </p:nvPicPr>
        <p:blipFill>
          <a:blip r:embed="rId3"/>
          <a:stretch/>
        </p:blipFill>
        <p:spPr>
          <a:xfrm>
            <a:off x="2305080" y="5199120"/>
            <a:ext cx="785880" cy="4539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4" descr=""/>
          <p:cNvPicPr/>
          <p:nvPr/>
        </p:nvPicPr>
        <p:blipFill>
          <a:blip r:embed="rId4"/>
          <a:stretch/>
        </p:blipFill>
        <p:spPr>
          <a:xfrm>
            <a:off x="7215120" y="5214960"/>
            <a:ext cx="785880" cy="45396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4" descr=""/>
          <p:cNvPicPr/>
          <p:nvPr/>
        </p:nvPicPr>
        <p:blipFill>
          <a:blip r:embed="rId5"/>
          <a:stretch/>
        </p:blipFill>
        <p:spPr>
          <a:xfrm>
            <a:off x="1214280" y="5884920"/>
            <a:ext cx="78588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2" descr=""/>
          <p:cNvPicPr/>
          <p:nvPr/>
        </p:nvPicPr>
        <p:blipFill>
          <a:blip r:embed="rId1"/>
          <a:stretch/>
        </p:blipFill>
        <p:spPr>
          <a:xfrm>
            <a:off x="928800" y="928800"/>
            <a:ext cx="684828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371520" y="1309680"/>
            <a:ext cx="8400960" cy="42386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3" descr=""/>
          <p:cNvPicPr/>
          <p:nvPr/>
        </p:nvPicPr>
        <p:blipFill>
          <a:blip r:embed="rId2"/>
          <a:stretch/>
        </p:blipFill>
        <p:spPr>
          <a:xfrm>
            <a:off x="1152360" y="3367080"/>
            <a:ext cx="7610760" cy="723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1152360" y="4152960"/>
            <a:ext cx="7658280" cy="6476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5" descr=""/>
          <p:cNvPicPr/>
          <p:nvPr/>
        </p:nvPicPr>
        <p:blipFill>
          <a:blip r:embed="rId4"/>
          <a:stretch/>
        </p:blipFill>
        <p:spPr>
          <a:xfrm>
            <a:off x="1071720" y="4857840"/>
            <a:ext cx="7724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357120" y="905040"/>
            <a:ext cx="8429760" cy="566712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3" descr=""/>
          <p:cNvPicPr/>
          <p:nvPr/>
        </p:nvPicPr>
        <p:blipFill>
          <a:blip r:embed="rId2"/>
          <a:stretch/>
        </p:blipFill>
        <p:spPr>
          <a:xfrm>
            <a:off x="4000680" y="174636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3"/>
          <a:stretch/>
        </p:blipFill>
        <p:spPr>
          <a:xfrm>
            <a:off x="6643800" y="1785960"/>
            <a:ext cx="2076480" cy="10382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3" descr=""/>
          <p:cNvPicPr/>
          <p:nvPr/>
        </p:nvPicPr>
        <p:blipFill>
          <a:blip r:embed="rId4"/>
          <a:stretch/>
        </p:blipFill>
        <p:spPr>
          <a:xfrm>
            <a:off x="4000680" y="300024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4" descr=""/>
          <p:cNvPicPr/>
          <p:nvPr/>
        </p:nvPicPr>
        <p:blipFill>
          <a:blip r:embed="rId5"/>
          <a:stretch/>
        </p:blipFill>
        <p:spPr>
          <a:xfrm>
            <a:off x="2643120" y="4286160"/>
            <a:ext cx="2076480" cy="10382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3" descr=""/>
          <p:cNvPicPr/>
          <p:nvPr/>
        </p:nvPicPr>
        <p:blipFill>
          <a:blip r:embed="rId6"/>
          <a:stretch/>
        </p:blipFill>
        <p:spPr>
          <a:xfrm>
            <a:off x="7643880" y="42861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3" descr=""/>
          <p:cNvPicPr/>
          <p:nvPr/>
        </p:nvPicPr>
        <p:blipFill>
          <a:blip r:embed="rId7"/>
          <a:stretch/>
        </p:blipFill>
        <p:spPr>
          <a:xfrm>
            <a:off x="2428920" y="550080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3" descr=""/>
          <p:cNvPicPr/>
          <p:nvPr/>
        </p:nvPicPr>
        <p:blipFill>
          <a:blip r:embed="rId8"/>
          <a:stretch/>
        </p:blipFill>
        <p:spPr>
          <a:xfrm>
            <a:off x="5572080" y="550080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2" descr=""/>
          <p:cNvPicPr/>
          <p:nvPr/>
        </p:nvPicPr>
        <p:blipFill>
          <a:blip r:embed="rId1"/>
          <a:stretch/>
        </p:blipFill>
        <p:spPr>
          <a:xfrm>
            <a:off x="709560" y="714240"/>
            <a:ext cx="7724880" cy="60962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3" descr=""/>
          <p:cNvPicPr/>
          <p:nvPr/>
        </p:nvPicPr>
        <p:blipFill>
          <a:blip r:embed="rId2"/>
          <a:stretch/>
        </p:blipFill>
        <p:spPr>
          <a:xfrm>
            <a:off x="803160" y="73188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3" descr=""/>
          <p:cNvPicPr/>
          <p:nvPr/>
        </p:nvPicPr>
        <p:blipFill>
          <a:blip r:embed="rId3"/>
          <a:stretch/>
        </p:blipFill>
        <p:spPr>
          <a:xfrm>
            <a:off x="4398840" y="2000160"/>
            <a:ext cx="1057320" cy="1057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4"/>
          <a:stretch/>
        </p:blipFill>
        <p:spPr>
          <a:xfrm>
            <a:off x="1751040" y="3286080"/>
            <a:ext cx="2076480" cy="10382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3" descr=""/>
          <p:cNvPicPr/>
          <p:nvPr/>
        </p:nvPicPr>
        <p:blipFill>
          <a:blip r:embed="rId5"/>
          <a:stretch/>
        </p:blipFill>
        <p:spPr>
          <a:xfrm>
            <a:off x="1143000" y="4500720"/>
            <a:ext cx="1057320" cy="105696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6"/>
          <a:stretch/>
        </p:blipFill>
        <p:spPr>
          <a:xfrm>
            <a:off x="6357960" y="4518000"/>
            <a:ext cx="2076480" cy="10382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7"/>
          <a:stretch/>
        </p:blipFill>
        <p:spPr>
          <a:xfrm>
            <a:off x="5429160" y="5792760"/>
            <a:ext cx="20764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2" descr=""/>
          <p:cNvPicPr/>
          <p:nvPr/>
        </p:nvPicPr>
        <p:blipFill>
          <a:blip r:embed="rId1"/>
          <a:stretch/>
        </p:blipFill>
        <p:spPr>
          <a:xfrm>
            <a:off x="528480" y="990720"/>
            <a:ext cx="8087040" cy="55814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2"/>
          <a:stretch/>
        </p:blipFill>
        <p:spPr>
          <a:xfrm>
            <a:off x="4071960" y="3000240"/>
            <a:ext cx="714240" cy="4543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3"/>
          <a:stretch/>
        </p:blipFill>
        <p:spPr>
          <a:xfrm>
            <a:off x="6858000" y="3000240"/>
            <a:ext cx="714240" cy="4543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4"/>
          <a:stretch/>
        </p:blipFill>
        <p:spPr>
          <a:xfrm>
            <a:off x="4143240" y="4457880"/>
            <a:ext cx="714600" cy="4539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5"/>
          <a:stretch/>
        </p:blipFill>
        <p:spPr>
          <a:xfrm>
            <a:off x="6929280" y="4457880"/>
            <a:ext cx="714600" cy="4539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6"/>
          <a:stretch/>
        </p:blipFill>
        <p:spPr>
          <a:xfrm>
            <a:off x="4500720" y="5824440"/>
            <a:ext cx="714240" cy="4525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7"/>
          <a:stretch/>
        </p:blipFill>
        <p:spPr>
          <a:xfrm>
            <a:off x="7286760" y="5824440"/>
            <a:ext cx="714240" cy="4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9" name="Picture 2" descr=""/>
          <p:cNvPicPr/>
          <p:nvPr/>
        </p:nvPicPr>
        <p:blipFill>
          <a:blip r:embed="rId1"/>
          <a:stretch/>
        </p:blipFill>
        <p:spPr>
          <a:xfrm>
            <a:off x="1000080" y="857160"/>
            <a:ext cx="7220160" cy="107640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3" descr=""/>
          <p:cNvPicPr/>
          <p:nvPr/>
        </p:nvPicPr>
        <p:blipFill>
          <a:blip r:embed="rId2"/>
          <a:stretch/>
        </p:blipFill>
        <p:spPr>
          <a:xfrm>
            <a:off x="338040" y="2200320"/>
            <a:ext cx="8448840" cy="4371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3"/>
          <a:stretch/>
        </p:blipFill>
        <p:spPr>
          <a:xfrm>
            <a:off x="4286160" y="1143000"/>
            <a:ext cx="714600" cy="453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4"/>
          <a:stretch/>
        </p:blipFill>
        <p:spPr>
          <a:xfrm>
            <a:off x="6929280" y="1143000"/>
            <a:ext cx="714600" cy="453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5"/>
          <a:stretch/>
        </p:blipFill>
        <p:spPr>
          <a:xfrm>
            <a:off x="6286680" y="3589200"/>
            <a:ext cx="2071440" cy="4543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6"/>
          <a:stretch/>
        </p:blipFill>
        <p:spPr>
          <a:xfrm>
            <a:off x="6269040" y="4903920"/>
            <a:ext cx="2071800" cy="453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7"/>
          <a:stretch/>
        </p:blipFill>
        <p:spPr>
          <a:xfrm>
            <a:off x="6232680" y="5502240"/>
            <a:ext cx="2071440" cy="4539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4" descr=""/>
          <p:cNvPicPr/>
          <p:nvPr/>
        </p:nvPicPr>
        <p:blipFill>
          <a:blip r:embed="rId8"/>
          <a:stretch/>
        </p:blipFill>
        <p:spPr>
          <a:xfrm>
            <a:off x="6286680" y="6089760"/>
            <a:ext cx="20714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2" descr=""/>
          <p:cNvPicPr/>
          <p:nvPr/>
        </p:nvPicPr>
        <p:blipFill>
          <a:blip r:embed="rId1"/>
          <a:stretch/>
        </p:blipFill>
        <p:spPr>
          <a:xfrm>
            <a:off x="380880" y="1095480"/>
            <a:ext cx="8382240" cy="5048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2"/>
          <a:stretch/>
        </p:blipFill>
        <p:spPr>
          <a:xfrm>
            <a:off x="1214280" y="314316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3"/>
          <a:stretch/>
        </p:blipFill>
        <p:spPr>
          <a:xfrm>
            <a:off x="7000920" y="377676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4"/>
          <a:stretch/>
        </p:blipFill>
        <p:spPr>
          <a:xfrm>
            <a:off x="2428920" y="5046840"/>
            <a:ext cx="554040" cy="453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4" descr=""/>
          <p:cNvPicPr/>
          <p:nvPr/>
        </p:nvPicPr>
        <p:blipFill>
          <a:blip r:embed="rId5"/>
          <a:stretch/>
        </p:blipFill>
        <p:spPr>
          <a:xfrm>
            <a:off x="6572160" y="5572080"/>
            <a:ext cx="55404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Picture 2" descr=""/>
          <p:cNvPicPr/>
          <p:nvPr/>
        </p:nvPicPr>
        <p:blipFill>
          <a:blip r:embed="rId1"/>
          <a:stretch/>
        </p:blipFill>
        <p:spPr>
          <a:xfrm>
            <a:off x="314280" y="952560"/>
            <a:ext cx="8515440" cy="56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"/>
          <p:cNvPicPr/>
          <p:nvPr/>
        </p:nvPicPr>
        <p:blipFill>
          <a:blip r:embed="rId1"/>
          <a:stretch/>
        </p:blipFill>
        <p:spPr>
          <a:xfrm>
            <a:off x="390600" y="961920"/>
            <a:ext cx="836280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4T03:48:35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